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3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3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FEF4-9BDC-4DCB-9CD7-F472A7344C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80DE-2949-4DAA-8561-964018303DB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6CA3-7377-4DF4-9969-7DE4CD25D59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B2BE-BF05-4A7D-8C52-F81FDAF621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44FB-ACF7-4C0D-A256-D040489AE3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CA3B-7F24-4337-9ABF-7A1A43E680B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22D-5909-4743-B992-807B2DDF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BBF-D03C-4733-85FC-B6AC0651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C6E-663B-4E5C-9AA3-2CEF455A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F84-22DF-461A-AABD-E0E1377C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374C-CE04-42C0-9F67-9281B1BD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9EA0-4C57-45C1-8002-9F9EC0C1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4ECE-C5DC-4F6D-9DAC-5574F184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F35F-111C-4701-8FA9-8EE0591E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ACE3-7DFF-471F-9C5D-2395288B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D48C-8359-47A9-A883-13228EA5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917-F7EF-4340-BCE4-773400A2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241-82FF-4E60-9DEA-7692029A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09B8-948E-4957-9AF4-2266BFD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E69E-0B81-428A-916F-B9CEA90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65A0-6D2F-4C51-BB46-DABCD1DD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2344-F015-4151-87A7-E4B6DD71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E82A-44CE-4C7F-9017-73C8171F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85A-E81D-454E-9224-579D6CE9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2D1-6673-4F26-8F0C-6FD521F6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C8E-4906-4F85-B370-902181F0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F61-ACAD-4E4E-B71C-F83FEBB5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85F-EBD5-4334-A381-FA9A831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20D-DD3A-4988-86AD-C37CEBBD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C7F-C8CC-4AFD-840E-A843F170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EF8-A088-4DD0-8A34-DE117B648D95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83C6-FA38-4597-8053-1B0CD382936F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7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73480" y="1487520"/>
            <a:ext cx="55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1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12800" y="1919160"/>
            <a:ext cx="78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Docenti e alunni dotati del software Smart Notebook 10 possono preparare rispettivamente lezioni e lavori da c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Immagine 14" descr="new_in_notebook_math.png"/>
          <p:cNvPicPr/>
          <p:nvPr/>
        </p:nvPicPr>
        <p:blipFill>
          <a:blip r:embed="rId1"/>
          <a:stretch/>
        </p:blipFill>
        <p:spPr>
          <a:xfrm>
            <a:off x="684360" y="3108240"/>
            <a:ext cx="3787560" cy="233676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7" descr="classe_dopo.JPG"/>
          <p:cNvPicPr/>
          <p:nvPr/>
        </p:nvPicPr>
        <p:blipFill>
          <a:blip r:embed="rId2"/>
          <a:stretch/>
        </p:blipFill>
        <p:spPr>
          <a:xfrm>
            <a:off x="4859280" y="3068640"/>
            <a:ext cx="3241800" cy="2430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45840" y="1413000"/>
            <a:ext cx="55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2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784080" y="1844640"/>
            <a:ext cx="789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Con il software Website x5 oppure Joomla gli alunni e i docenti possono tenere aggiornato un diario dove raccontare le proprie esperienze e raccogliere i propri lav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magine 15" descr="sfondo.jpg"/>
          <p:cNvPicPr/>
          <p:nvPr/>
        </p:nvPicPr>
        <p:blipFill>
          <a:blip r:embed="rId1"/>
          <a:stretch/>
        </p:blipFill>
        <p:spPr>
          <a:xfrm>
            <a:off x="2268360" y="2781360"/>
            <a:ext cx="45356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45840" y="1413000"/>
            <a:ext cx="55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3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784080" y="1844640"/>
            <a:ext cx="789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Con la piattaforma di e-learning a distanza MOODLE è possibile favorire il lavoro cooperativo, la condivisione di materiali, l’assegnazione e correzione di compiti, test, lezioni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7344000" cy="3175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45840" y="1413000"/>
            <a:ext cx="55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4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784080" y="1844640"/>
            <a:ext cx="78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L’insegnante registra con i microfoni senza fili la lezione tenuta alla LIM direttamente in classe  e la  mette a disposizione degli alunni nella piattaforma Moodle per il ripasso o degli alunni  assenti per mettersi al passo con la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908000" y="2987640"/>
            <a:ext cx="5256360" cy="3178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45840" y="1413000"/>
            <a:ext cx="55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5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611280" y="1844640"/>
            <a:ext cx="78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Con la document camera si possono effettuare registrazioni di esercizi commentati dall’insegnante da mettere online e da far utilizzare agli alunni  come guida per svolgere esercizi simili 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magine 5" descr="avermedia.jpg"/>
          <p:cNvPicPr/>
          <p:nvPr/>
        </p:nvPicPr>
        <p:blipFill>
          <a:blip r:embed="rId1"/>
          <a:stretch/>
        </p:blipFill>
        <p:spPr>
          <a:xfrm>
            <a:off x="3132000" y="2781360"/>
            <a:ext cx="2592360" cy="3163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840" y="1413000"/>
            <a:ext cx="55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6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611280" y="1844640"/>
            <a:ext cx="78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Con Smart Notebook e Response è possibile creare e somministrare test per monitorare l’apprendimento in itinere o per valutare il raggiungimento delle competenz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magine 6" descr="quiz.jpg"/>
          <p:cNvPicPr/>
          <p:nvPr/>
        </p:nvPicPr>
        <p:blipFill>
          <a:blip r:embed="rId1"/>
          <a:stretch/>
        </p:blipFill>
        <p:spPr>
          <a:xfrm>
            <a:off x="684360" y="3141720"/>
            <a:ext cx="3530520" cy="266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39337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45840" y="1413000"/>
            <a:ext cx="55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7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611280" y="1844640"/>
            <a:ext cx="78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Si può utilizzare Smart Sync per controllare gli alunni mentre lavorano, prendere il controllo dei loro monitor, inviare loro file o video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Immagine 7" descr="p026_1_03.png"/>
          <p:cNvPicPr/>
          <p:nvPr/>
        </p:nvPicPr>
        <p:blipFill>
          <a:blip r:embed="rId1"/>
          <a:stretch/>
        </p:blipFill>
        <p:spPr>
          <a:xfrm>
            <a:off x="2700360" y="2852640"/>
            <a:ext cx="349416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45840" y="1413000"/>
            <a:ext cx="55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8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611280" y="1844640"/>
            <a:ext cx="78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Si può utilizzare il software Wordpress o Moodle per creare Wiki relativi ad argomenti da far sviluppare agli alunni in cooper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magine 5" descr="wiki.gif"/>
          <p:cNvPicPr/>
          <p:nvPr/>
        </p:nvPicPr>
        <p:blipFill>
          <a:blip r:embed="rId1"/>
          <a:stretch/>
        </p:blipFill>
        <p:spPr>
          <a:xfrm>
            <a:off x="755640" y="3141720"/>
            <a:ext cx="3745080" cy="2079720"/>
          </a:xfrm>
          <a:prstGeom prst="rect">
            <a:avLst/>
          </a:prstGeom>
          <a:ln w="0">
            <a:noFill/>
          </a:ln>
        </p:spPr>
      </p:pic>
      <p:pic>
        <p:nvPicPr>
          <p:cNvPr id="190" name="Immagine 6" descr="wiki2.jpg"/>
          <p:cNvPicPr/>
          <p:nvPr/>
        </p:nvPicPr>
        <p:blipFill>
          <a:blip r:embed="rId2"/>
          <a:stretch/>
        </p:blipFill>
        <p:spPr>
          <a:xfrm>
            <a:off x="5364000" y="2781360"/>
            <a:ext cx="2303640" cy="2705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45840" y="1413000"/>
            <a:ext cx="55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9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611280" y="1844640"/>
            <a:ext cx="78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Si può utilizzare il software Didapages 1.1 per creare libri interattivi multimediali che si sfogliano al click del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Immagine 7" descr="didapages.jpg"/>
          <p:cNvPicPr/>
          <p:nvPr/>
        </p:nvPicPr>
        <p:blipFill>
          <a:blip r:embed="rId1"/>
          <a:stretch/>
        </p:blipFill>
        <p:spPr>
          <a:xfrm>
            <a:off x="1332000" y="3141720"/>
            <a:ext cx="1893960" cy="2374920"/>
          </a:xfrm>
          <a:prstGeom prst="rect">
            <a:avLst/>
          </a:prstGeom>
          <a:ln w="0">
            <a:noFill/>
          </a:ln>
        </p:spPr>
      </p:pic>
      <p:pic>
        <p:nvPicPr>
          <p:cNvPr id="195" name="Immagine 8" descr="didapages2.jpg"/>
          <p:cNvPicPr/>
          <p:nvPr/>
        </p:nvPicPr>
        <p:blipFill>
          <a:blip r:embed="rId2"/>
          <a:stretch/>
        </p:blipFill>
        <p:spPr>
          <a:xfrm>
            <a:off x="4211640" y="2997360"/>
            <a:ext cx="35830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E TECNOLOGIE A SUPPORTO DELLA DIDAT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46920" y="1413000"/>
            <a:ext cx="57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10° Esempio di utilizzo delle tecn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611280" y="1844640"/>
            <a:ext cx="78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Si può sfruttare la Document camera come webcam per fare video conferenze con il software Sk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magine 4" descr="videoconferenza.jpg"/>
          <p:cNvPicPr/>
          <p:nvPr/>
        </p:nvPicPr>
        <p:blipFill>
          <a:blip r:embed="rId1"/>
          <a:stretch/>
        </p:blipFill>
        <p:spPr>
          <a:xfrm>
            <a:off x="2987640" y="2708280"/>
            <a:ext cx="26956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CAMBIAMENTI IN CLAS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32880" y="141300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L’utilizzo costante delle tecnologi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611280" y="198900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favorisce un clima di maggior ascolto in classe, una partecipazione più attiva alle lezioni e più disponibilità al lavoro co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641520" y="3132000"/>
            <a:ext cx="48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rende l’allievo protagonista dei propri saper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641520" y="3790800"/>
            <a:ext cx="78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favorisce il raggiungimento delle competenze fissate in fase di program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641520" y="4643280"/>
            <a:ext cx="78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consente di allargare l’ambiente di apprendimento grazie ad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641520" y="5148360"/>
            <a:ext cx="78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favorisce una didattica condotta per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5651640" y="1413000"/>
            <a:ext cx="2952720" cy="2260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1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500"/>
                            </p:stCondLst>
                            <p:childTnLst>
                              <p:par>
                                <p:cTn id="219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CRITICITA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34320" y="3070080"/>
            <a:ext cx="49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L’utilizzo delle tecnologie com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611280" y="36464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la necessità di un tecnico che si occupi degli aggiornamenti del sistema operativo e dei vari soft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641520" y="4367160"/>
            <a:ext cx="78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un aggiornamento continuo dei docenti sull’uso delle tecnolog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641520" y="4861080"/>
            <a:ext cx="78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la preparazione delle lezioni a casa da parte dei do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641520" y="5302080"/>
            <a:ext cx="78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la preparazione di materiale alternativo in caso di cattivo funzionamento degli strumenti o della r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magine 9" descr="intestazione.jpg"/>
          <p:cNvPicPr/>
          <p:nvPr/>
        </p:nvPicPr>
        <p:blipFill>
          <a:blip r:embed="rId1"/>
          <a:stretch/>
        </p:blipFill>
        <p:spPr>
          <a:xfrm>
            <a:off x="2268360" y="1413000"/>
            <a:ext cx="6336000" cy="157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500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getto nazionale Cl@ssi 2.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2484360" y="3860640"/>
            <a:ext cx="42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F i 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Immagine 9" descr="intestazione.jpg"/>
          <p:cNvPicPr/>
          <p:nvPr/>
        </p:nvPicPr>
        <p:blipFill>
          <a:blip r:embed="rId1"/>
          <a:stretch/>
        </p:blipFill>
        <p:spPr>
          <a:xfrm>
            <a:off x="2268360" y="1413000"/>
            <a:ext cx="6336000" cy="157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etto nazionale Cl@ssi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47640" y="1521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66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PROGETTO SCUOLA DIGIT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9640" y="3441240"/>
            <a:ext cx="64803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66"/>
                </a:solidFill>
                <a:latin typeface="Arial"/>
              </a:rPr>
              <a:t>… </a:t>
            </a:r>
            <a:r>
              <a:rPr b="1" lang="it-IT" sz="3600" spc="-1" strike="noStrike">
                <a:solidFill>
                  <a:srgbClr val="ff0066"/>
                </a:solidFill>
                <a:latin typeface="Arial"/>
              </a:rPr>
              <a:t>Idea 2.0</a:t>
            </a:r>
            <a:r>
              <a:rPr b="0" lang="it-IT" sz="3600" spc="-1" strike="noStrike">
                <a:solidFill>
                  <a:srgbClr val="ff0066"/>
                </a:solidFill>
                <a:latin typeface="Arial"/>
              </a:rPr>
              <a:t> diventa </a:t>
            </a:r>
            <a:r>
              <a:rPr b="1" lang="it-IT" sz="3600" spc="-1" strike="noStrike">
                <a:solidFill>
                  <a:srgbClr val="ff0066"/>
                </a:solidFill>
                <a:latin typeface="Arial"/>
              </a:rPr>
              <a:t>Cl@ssi 2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66"/>
                </a:solidFill>
                <a:latin typeface="Arial"/>
              </a:rPr>
              <a:t>per l’ITCS D. Cestari d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66"/>
                </a:solidFill>
                <a:latin typeface="Arial"/>
              </a:rPr>
              <a:t>Chioggia (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tichetta4"/>
          <p:cNvPicPr/>
          <p:nvPr/>
        </p:nvPicPr>
        <p:blipFill>
          <a:blip r:embed="rId1"/>
          <a:stretch/>
        </p:blipFill>
        <p:spPr>
          <a:xfrm>
            <a:off x="6195960" y="4292640"/>
            <a:ext cx="1544760" cy="103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biettivi principali di Idea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95280" y="138924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Promuovere attraverso l’uso delle tecnologie modalità di apprendimento di tipo laboratoriale</a:t>
            </a:r>
            <a:r>
              <a:rPr b="0" lang="it-IT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95280" y="267012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6666cc"/>
                </a:solidFill>
                <a:latin typeface="Arial"/>
              </a:rPr>
              <a:t>Sfruttare i diversi canali comunicativi offerti dalla multimedialità e dalle ICT per favorire l’apprendimento anche degli alunni diversamente abi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5280" y="206676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Guidare gli alunni ad assumere atteggiamenti di “costruttori del sape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68360" y="4508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Promuovere con l’aiuto degli enti che operano nel territorio (comuni, province, regioni, università, musei, …) una rete tra scuole per valorizzare i curricoli formali (del sistema scuola), informali e non formali ( esperienze e saperi acquisiti fuori dal sistema scuol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95280" y="3789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669999"/>
                </a:solidFill>
                <a:latin typeface="Arial"/>
              </a:rPr>
              <a:t>Favorire l’apprendimento cooperativo creando con Moodle un laboratorio online che potenzi ma non sostituisca la didat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55640" y="573408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Monitorare l’efficacia dei progetti e il raggiungimento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p026_1_05"/>
          <p:cNvPicPr/>
          <p:nvPr/>
        </p:nvPicPr>
        <p:blipFill>
          <a:blip r:embed="rId1"/>
          <a:stretch/>
        </p:blipFill>
        <p:spPr>
          <a:xfrm>
            <a:off x="5796000" y="1341360"/>
            <a:ext cx="2847960" cy="214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odifica degli ambienti di 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ntestazione"/>
          <p:cNvPicPr/>
          <p:nvPr/>
        </p:nvPicPr>
        <p:blipFill>
          <a:blip r:embed="rId1"/>
          <a:stretch/>
        </p:blipFill>
        <p:spPr>
          <a:xfrm>
            <a:off x="5003640" y="1374840"/>
            <a:ext cx="3633840" cy="911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5014080" y="25653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PER COMINCI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442800" y="1413000"/>
            <a:ext cx="4538880" cy="3603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4572000" y="32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Arial"/>
              </a:rPr>
              <a:t>Con il software WFLASH 2.0, un AutoCad freeware, gli alunni hanno creato la piantina della loro cl@sse 2.0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odifica degli ambienti di 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intestazione"/>
          <p:cNvPicPr/>
          <p:nvPr/>
        </p:nvPicPr>
        <p:blipFill>
          <a:blip r:embed="rId1"/>
          <a:stretch/>
        </p:blipFill>
        <p:spPr>
          <a:xfrm>
            <a:off x="5003640" y="1374840"/>
            <a:ext cx="3633840" cy="911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4543920" y="261144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NEL MESE DI MARZ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498920" y="314172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66"/>
                </a:solidFill>
                <a:latin typeface="Arial"/>
              </a:rPr>
              <a:t>La Provincia provvede ad attrezzare la classe degli attacchi elettrici e della rete Ethernet</a:t>
            </a: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operai01"/>
          <p:cNvPicPr/>
          <p:nvPr/>
        </p:nvPicPr>
        <p:blipFill>
          <a:blip r:embed="rId2"/>
          <a:stretch/>
        </p:blipFill>
        <p:spPr>
          <a:xfrm>
            <a:off x="755640" y="141300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operai02"/>
          <p:cNvPicPr/>
          <p:nvPr/>
        </p:nvPicPr>
        <p:blipFill>
          <a:blip r:embed="rId3"/>
          <a:stretch/>
        </p:blipFill>
        <p:spPr>
          <a:xfrm>
            <a:off x="755640" y="3825720"/>
            <a:ext cx="3024360" cy="2267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4498920" y="48340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66"/>
                </a:solidFill>
                <a:latin typeface="Arial"/>
              </a:rPr>
              <a:t>L’istituto acquista il router e i switch per completare la rete LAN e 20 banchi nu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odifica degli ambienti di 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ntestazione"/>
          <p:cNvPicPr/>
          <p:nvPr/>
        </p:nvPicPr>
        <p:blipFill>
          <a:blip r:embed="rId1"/>
          <a:stretch/>
        </p:blipFill>
        <p:spPr>
          <a:xfrm>
            <a:off x="5003640" y="1374840"/>
            <a:ext cx="3633840" cy="911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240" y="141300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NEL MESE DI APRIL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9640" y="1844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66"/>
                </a:solidFill>
                <a:latin typeface="Arial"/>
              </a:rPr>
              <a:t>Ecco i nostri acqui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684360" y="2370240"/>
            <a:ext cx="1296720" cy="1130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515520" y="3583080"/>
            <a:ext cx="18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0 Not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shiba-Satellite 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660-1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mouse"/>
          <p:cNvPicPr/>
          <p:nvPr/>
        </p:nvPicPr>
        <p:blipFill>
          <a:blip r:embed="rId3"/>
          <a:stretch/>
        </p:blipFill>
        <p:spPr>
          <a:xfrm>
            <a:off x="2411280" y="2421000"/>
            <a:ext cx="1105200" cy="1104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2"/>
          <p:cNvSpPr/>
          <p:nvPr/>
        </p:nvSpPr>
        <p:spPr>
          <a:xfrm>
            <a:off x="2338200" y="35733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0 mini-m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hat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cavo-di-sicur-kensington-micro"/>
          <p:cNvPicPr/>
          <p:nvPr/>
        </p:nvPicPr>
        <p:blipFill>
          <a:blip r:embed="rId4"/>
          <a:stretch/>
        </p:blipFill>
        <p:spPr>
          <a:xfrm>
            <a:off x="3825720" y="2421000"/>
            <a:ext cx="1033560" cy="1033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3680640" y="3562200"/>
            <a:ext cx="154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0 cavi di accia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 sicurez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6" descr="lexicon_alpha__24492_zoom"/>
          <p:cNvPicPr/>
          <p:nvPr/>
        </p:nvPicPr>
        <p:blipFill>
          <a:blip r:embed="rId5"/>
          <a:stretch/>
        </p:blipFill>
        <p:spPr>
          <a:xfrm>
            <a:off x="5364000" y="2852640"/>
            <a:ext cx="1440000" cy="478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7"/>
          <p:cNvSpPr/>
          <p:nvPr/>
        </p:nvSpPr>
        <p:spPr>
          <a:xfrm>
            <a:off x="5360400" y="3562200"/>
            <a:ext cx="144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 scheda aud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exicon 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8" descr="microfoni"/>
          <p:cNvPicPr/>
          <p:nvPr/>
        </p:nvPicPr>
        <p:blipFill>
          <a:blip r:embed="rId6"/>
          <a:stretch/>
        </p:blipFill>
        <p:spPr>
          <a:xfrm>
            <a:off x="7102440" y="228744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9"/>
          <p:cNvSpPr/>
          <p:nvPr/>
        </p:nvSpPr>
        <p:spPr>
          <a:xfrm>
            <a:off x="6944400" y="3605040"/>
            <a:ext cx="165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 Kit di 3 microf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nza fili Pr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scanner"/>
          <p:cNvPicPr/>
          <p:nvPr/>
        </p:nvPicPr>
        <p:blipFill>
          <a:blip r:embed="rId7"/>
          <a:stretch/>
        </p:blipFill>
        <p:spPr>
          <a:xfrm>
            <a:off x="611280" y="429408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1"/>
          <p:cNvSpPr/>
          <p:nvPr/>
        </p:nvSpPr>
        <p:spPr>
          <a:xfrm>
            <a:off x="393480" y="537372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 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CanoScan LiDE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stampante"/>
          <p:cNvPicPr/>
          <p:nvPr/>
        </p:nvPicPr>
        <p:blipFill>
          <a:blip r:embed="rId8"/>
          <a:stretch/>
        </p:blipFill>
        <p:spPr>
          <a:xfrm>
            <a:off x="2340000" y="4221000"/>
            <a:ext cx="1224000" cy="941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3"/>
          <p:cNvSpPr/>
          <p:nvPr/>
        </p:nvSpPr>
        <p:spPr>
          <a:xfrm>
            <a:off x="2119320" y="5362560"/>
            <a:ext cx="165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 stampante la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olori Eps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cuLaser C1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4" descr="document"/>
          <p:cNvPicPr/>
          <p:nvPr/>
        </p:nvPicPr>
        <p:blipFill>
          <a:blip r:embed="rId9"/>
          <a:stretch/>
        </p:blipFill>
        <p:spPr>
          <a:xfrm>
            <a:off x="4067280" y="4076640"/>
            <a:ext cx="1055520" cy="1440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5"/>
          <p:cNvSpPr/>
          <p:nvPr/>
        </p:nvSpPr>
        <p:spPr>
          <a:xfrm>
            <a:off x="3633840" y="5575320"/>
            <a:ext cx="184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 document ca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vermedia SPC300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6" descr="classroom"/>
          <p:cNvPicPr/>
          <p:nvPr/>
        </p:nvPicPr>
        <p:blipFill>
          <a:blip r:embed="rId10"/>
          <a:stretch/>
        </p:blipFill>
        <p:spPr>
          <a:xfrm>
            <a:off x="5435640" y="4149720"/>
            <a:ext cx="1368360" cy="1320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7"/>
          <p:cNvSpPr/>
          <p:nvPr/>
        </p:nvSpPr>
        <p:spPr>
          <a:xfrm>
            <a:off x="5362200" y="5445000"/>
            <a:ext cx="155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mart Class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it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8" descr=""/>
          <p:cNvPicPr/>
          <p:nvPr/>
        </p:nvPicPr>
        <p:blipFill>
          <a:blip r:embed="rId11"/>
          <a:stretch/>
        </p:blipFill>
        <p:spPr>
          <a:xfrm>
            <a:off x="7093080" y="4149720"/>
            <a:ext cx="1295280" cy="1281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9"/>
          <p:cNvSpPr/>
          <p:nvPr/>
        </p:nvSpPr>
        <p:spPr>
          <a:xfrm>
            <a:off x="6875640" y="5445000"/>
            <a:ext cx="155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rso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ddestr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assRoom Su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ddestramento dei doc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42520" y="1341360"/>
            <a:ext cx="42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NEL MESE DI APRIL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6" descr="Corso LIM 2 aprile 2011"/>
          <p:cNvPicPr/>
          <p:nvPr/>
        </p:nvPicPr>
        <p:blipFill>
          <a:blip r:embed="rId1"/>
          <a:stretch/>
        </p:blipFill>
        <p:spPr>
          <a:xfrm>
            <a:off x="2050920" y="2133720"/>
            <a:ext cx="201636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7" descr="Corso LIM aprile 2011"/>
          <p:cNvPicPr/>
          <p:nvPr/>
        </p:nvPicPr>
        <p:blipFill>
          <a:blip r:embed="rId2"/>
          <a:stretch/>
        </p:blipFill>
        <p:spPr>
          <a:xfrm>
            <a:off x="4861080" y="2133720"/>
            <a:ext cx="2016000" cy="1511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8"/>
          <p:cNvSpPr/>
          <p:nvPr/>
        </p:nvSpPr>
        <p:spPr>
          <a:xfrm>
            <a:off x="712800" y="1773360"/>
            <a:ext cx="58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CORSO SULL’USO DELLA LIM NELLA DIDAT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612720" y="3716280"/>
            <a:ext cx="46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66cc"/>
                </a:solidFill>
                <a:latin typeface="Arial"/>
              </a:rPr>
              <a:t>NEL MESE DI OT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776160" y="407664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66"/>
                </a:solidFill>
                <a:latin typeface="Arial"/>
              </a:rPr>
              <a:t>CORSO DI ADDESTRAMENTO SULL’USO DI CLASSROOM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8" descr=""/>
          <p:cNvPicPr/>
          <p:nvPr/>
        </p:nvPicPr>
        <p:blipFill>
          <a:blip r:embed="rId3"/>
          <a:stretch/>
        </p:blipFill>
        <p:spPr>
          <a:xfrm>
            <a:off x="2050920" y="4508640"/>
            <a:ext cx="2016360" cy="1638000"/>
          </a:xfrm>
          <a:prstGeom prst="rect">
            <a:avLst/>
          </a:prstGeom>
          <a:ln w="0">
            <a:noFill/>
          </a:ln>
        </p:spPr>
      </p:pic>
      <p:pic>
        <p:nvPicPr>
          <p:cNvPr id="155" name="Immagine 11" descr="addestramento.jpg"/>
          <p:cNvPicPr/>
          <p:nvPr/>
        </p:nvPicPr>
        <p:blipFill>
          <a:blip r:embed="rId4"/>
          <a:stretch/>
        </p:blipFill>
        <p:spPr>
          <a:xfrm>
            <a:off x="4859280" y="4510080"/>
            <a:ext cx="208908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3:34:21Z</dcterms:created>
  <dc:creator>Antonio</dc:creator>
  <dc:description/>
  <dc:language>en-US</dc:language>
  <cp:lastModifiedBy>Antonio</cp:lastModifiedBy>
  <dcterms:modified xsi:type="dcterms:W3CDTF">2011-11-06T07:50:57Z</dcterms:modified>
  <cp:revision>299</cp:revision>
  <dc:subject/>
  <dc:title>Diapositiva 1</dc:title>
</cp:coreProperties>
</file>