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BE604-E1F7-4308-A539-2D0A8C52C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0CB8A-CFD7-4256-BC79-4B0103407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60187-D167-42C5-BE44-69D0BBF20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107AA-C89A-4FC4-A0AF-D85D7BF03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686022D-C995-4A90-8AA9-71ED68034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84BE53-E794-4FFD-90BE-B1C338F86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F2A771-805E-4A0A-A88E-CD98090C1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39834E-CBCD-4E50-ACDE-95B04A974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71AB6A-4FEF-4E9B-B9BB-81217BD41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3E36B8-58B7-44E1-A00F-0DB0D5F41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7061BC-2D11-4C0E-8877-AF6068CE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5AC3D-71F8-4D8C-A752-94FA7D5E7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D16AF0-940F-4D81-ABF6-8165DF3A3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41923F-1D5F-48B0-9634-8F28B67EE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EE6DE2-A4A8-43C5-9EDD-FB66A6B72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0A2D0AF-B573-4211-A34A-9B54A249E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AA59BC-67CA-413E-8329-67E88A27C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A7D6-6A90-477D-9EEA-8220E9E13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C6F4A-44CF-45F8-BCE5-35B83A99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09456-5ABB-46B7-B6AD-C1A276630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3B16E-2104-4178-978D-2CF8F0107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AA3D-0109-4285-8D8C-ABCFA244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36690-A838-4E4E-B4F3-D321DADD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13F35-1A0D-46D9-8823-781EDB787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7E29-C944-4594-8E37-6E27270F40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61D9-353C-4BDD-AFF0-065919D9D9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rsbellica.it/pagine/medievale/Poitiers/artpo.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404640"/>
            <a:ext cx="8013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La I Fase della Battaglia</a:t>
            </a:r>
            <a:endParaRPr b="0" lang="en-US" sz="5400" spc="-1" strike="noStrike">
              <a:solidFill>
                <a:srgbClr val="e3e3ff"/>
              </a:solidFill>
              <a:latin typeface="Arial"/>
            </a:endParaRPr>
          </a:p>
        </p:txBody>
      </p:sp>
      <p:pic>
        <p:nvPicPr>
          <p:cNvPr id="123" name="" descr=""/>
          <p:cNvPicPr/>
          <p:nvPr/>
        </p:nvPicPr>
        <p:blipFill>
          <a:blip r:embed="rId1"/>
          <a:stretch/>
        </p:blipFill>
        <p:spPr>
          <a:xfrm>
            <a:off x="2124000" y="1916280"/>
            <a:ext cx="5327640" cy="432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560" y="333360"/>
            <a:ext cx="8713800" cy="6191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allo scontro si passò quindi alla carneficina, che durò sino al tramonto quando anche Abd al-Rahman venne ucciso da un colpo d'ascia, infertogli forse dallo stesso Carlo Martello. Quando si sparse questa notizia gli arabi sopravvissuti scapparono rapidamente, lasciando sul terreno feriti e tende, ma soprattutto il bottino conquistato durante tutte le razzie in </a:t>
            </a:r>
            <a:r>
              <a:rPr b="0" lang="it-IT" sz="2800" spc="-1" strike="noStrike" u="sng">
                <a:solidFill>
                  <a:srgbClr val="ffffff"/>
                </a:solidFill>
                <a:uFillTx/>
                <a:latin typeface="Arial"/>
              </a:rPr>
              <a:t>Aquitania</a:t>
            </a:r>
            <a:r>
              <a:rPr b="0" lang="it-IT" sz="2800" spc="-1" strike="noStrike">
                <a:solidFill>
                  <a:srgbClr val="ffffff"/>
                </a:solidFill>
                <a:latin typeface="Arial"/>
              </a:rPr>
              <a:t>. La storiografia araba non fornisce una descrizione dell'andamento della battaglia molto diverso da questo : descrive come  i cavalieri berberi fossero riusciti a far breccia nelle file dei franchi e come i nemici si fossero diretti all'accampamento arabo per impossessarsi del bottino islamic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50560" y="260280"/>
            <a:ext cx="8713800" cy="63374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 questo punto, molti musulmani, accortisi di quello che stava accadendo, si sarebbero diretti verso l'accampamento stesso per proteggere il bottino, ma sfaldando, così, lo schieramento e facendo il gioco dei cristiani. La vera ragione per cui gli arabi avrebbero perso a Poitiers (secondo gli stessi arabi), non era da attribuirsi al valore dei franchi, bensì alla cupidigia dei musulmani stessi, che avrebbero dimostrato di essere poco credenti e che, per questo, sarebbero stati puniti dalla giustizia divina.</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cronache cristiane parlano di 1007 caduti tra i franchi e addirittura 375.000 tra gli arabi!! Senz'altro queste sono cifre che peccano rispettivamente per difetto e per eccesso: l'ammontare delle perdite patite dagli arabi doveva contare quasi tutto il contingente di partenza, tanto che lo scontro è ricordato dagli arabi come il: </a:t>
            </a:r>
            <a:r>
              <a:rPr b="1" i="1" lang="it-IT" sz="2400" spc="-1" strike="noStrike">
                <a:solidFill>
                  <a:srgbClr val="ffffff"/>
                </a:solidFill>
                <a:latin typeface="Arial"/>
              </a:rPr>
              <a:t>balat ashshuhadà</a:t>
            </a:r>
            <a:r>
              <a:rPr b="1" lang="it-IT" sz="2400" spc="-1" strike="noStrike">
                <a:solidFill>
                  <a:srgbClr val="ffffff"/>
                </a:solidFill>
                <a:latin typeface="Arial"/>
              </a:rPr>
              <a:t> ossia "il lastricato dei martiri della fed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sercito cristiano attese il nemico in mezzo alla confluenza di due fiumi, il </a:t>
            </a:r>
            <a:r>
              <a:rPr b="1" lang="it-IT" sz="2800" spc="-1" strike="noStrike">
                <a:solidFill>
                  <a:srgbClr val="ffffff"/>
                </a:solidFill>
                <a:latin typeface="Arial"/>
              </a:rPr>
              <a:t>Clain</a:t>
            </a:r>
            <a:r>
              <a:rPr b="0" lang="it-IT" sz="2800" spc="-1" strike="noStrike">
                <a:solidFill>
                  <a:srgbClr val="ffffff"/>
                </a:solidFill>
                <a:latin typeface="Arial"/>
              </a:rPr>
              <a:t> e il </a:t>
            </a:r>
            <a:r>
              <a:rPr b="1" lang="it-IT" sz="2800" spc="-1" strike="noStrike">
                <a:solidFill>
                  <a:srgbClr val="ffffff"/>
                </a:solidFill>
                <a:latin typeface="Arial"/>
              </a:rPr>
              <a:t>Vienne</a:t>
            </a:r>
            <a:r>
              <a:rPr b="0" lang="it-IT" sz="2800" spc="-1" strike="noStrike">
                <a:solidFill>
                  <a:srgbClr val="ffffff"/>
                </a:solidFill>
                <a:latin typeface="Arial"/>
              </a:rPr>
              <a:t>, schierandosi in un'unica formazione, robusta e profonda, formata da una prima linea nella quale si era disposta la fanteria pesante intervallata da piccoli reparti di cavalleria. Altri cavalieri si erano posizionati sui lati esterni della seconda linea, lasciando il vuoto nella parte centrale per evitare improvvisi aggiramenti. Inoltre alla sinistra dello schieramento, molto arretrato e nascosto in un bosco, vi era </a:t>
            </a:r>
            <a:r>
              <a:rPr b="0" i="1" lang="it-IT" sz="2800" spc="-1" strike="noStrike">
                <a:solidFill>
                  <a:srgbClr val="ffffff"/>
                </a:solidFill>
                <a:latin typeface="Arial"/>
              </a:rPr>
              <a:t>Oddone d'Aquitania</a:t>
            </a:r>
            <a:r>
              <a:rPr b="0" lang="it-IT" sz="2800" spc="-1" strike="noStrike">
                <a:solidFill>
                  <a:srgbClr val="ffffff"/>
                </a:solidFill>
                <a:latin typeface="Arial"/>
              </a:rPr>
              <a:t> insieme alla sua cavaller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li arabi invece si posizionarono in questa maniera: l'ala sinistra era formata dalla cavalleria leggera e si "appoggiava" al fiume </a:t>
            </a:r>
            <a:r>
              <a:rPr b="1" lang="it-IT" sz="2800" spc="-1" strike="noStrike">
                <a:solidFill>
                  <a:srgbClr val="ffffff"/>
                </a:solidFill>
                <a:latin typeface="Arial"/>
              </a:rPr>
              <a:t>Clain</a:t>
            </a:r>
            <a:r>
              <a:rPr b="0" lang="it-IT" sz="2800" spc="-1" strike="noStrike">
                <a:solidFill>
                  <a:srgbClr val="ffffff"/>
                </a:solidFill>
                <a:latin typeface="Arial"/>
              </a:rPr>
              <a:t>; la parte centrale, composta interamente da fanti ed arcieri, si era posizionata sull’ antica </a:t>
            </a:r>
            <a:r>
              <a:rPr b="0" i="1" lang="it-IT" sz="2800" spc="-1" strike="noStrike">
                <a:solidFill>
                  <a:srgbClr val="ffffff"/>
                </a:solidFill>
                <a:latin typeface="Arial"/>
              </a:rPr>
              <a:t>via romana</a:t>
            </a:r>
            <a:r>
              <a:rPr b="0" lang="it-IT" sz="2800" spc="-1" strike="noStrike">
                <a:solidFill>
                  <a:srgbClr val="ffffff"/>
                </a:solidFill>
                <a:latin typeface="Arial"/>
              </a:rPr>
              <a:t>, mentre l'ala destra del fronte musulmano era schierata su una bassa collina. Dietro ad ognuna delle due ali  erano posti due schieramenti di cammelli da trasporto: gli arabi infatti sapevano che l'odore pungente di questi animali poteva far imbizzarrire i cavalli dei franchi smobilitandone le schiere. La formazione iniziale era quella tipica a forma di mezzaluna, con le cavallerie leggermente avanzate rispetto alle fanterie e disposte a tenaglia allo scopo di stringere il nemico sulle ali ed accerchia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II Fase della Battaglia</a:t>
            </a:r>
            <a:endParaRPr b="0" lang="en-US" sz="4400" spc="-1" strike="noStrike">
              <a:solidFill>
                <a:srgbClr val="e3e3ff"/>
              </a:solidFill>
              <a:latin typeface="Arial"/>
            </a:endParaRPr>
          </a:p>
        </p:txBody>
      </p:sp>
      <p:pic>
        <p:nvPicPr>
          <p:cNvPr id="127" name="" descr=""/>
          <p:cNvPicPr/>
          <p:nvPr/>
        </p:nvPicPr>
        <p:blipFill>
          <a:blip r:embed="rId1"/>
          <a:stretch/>
        </p:blipFill>
        <p:spPr>
          <a:xfrm>
            <a:off x="1476360" y="1379520"/>
            <a:ext cx="6120000" cy="45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95280" y="333360"/>
            <a:ext cx="8229600" cy="61200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po che gli eserciti si erano fronteggiati, addirittura per una settimana, cominciò la vera e propria mischia, dall'alba al tramonto: gli arabi si lanciarono all'attacco per primi facendo partire le cavallerie berbere che investirono i fanti cristiani con una vera e propria pioggia di giavellotti, concentrando ripetuti assalti nelle zone del fronte avversario dove credevano possibile l'apertura di un var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 fanti delle prime linee non restava altro che rimanere immobili sotto i colpi dei musulmani, andando a formare quel famoso "muro di ghiaccio" assai enfatizzato dai cronisti cristiani dell'epoca. In realtà l'immobilità della fanteria era una scelta, era infatti logico che i guerrieri appiedati non si sarebbero dovuti muovere di fronte alla cavalleria, se non (quando i cavalli erano ormai sfiancati) per inseguire il nemico in ritirat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fanti cristiani rimasero completamente immobili nell'attesa che la cavalleria araba giungesse alla portata delle picche (o delle asce o degli spadoni sassoni), per andare a colpire prima i destrieri e poi, una volta appiedati, i cavalieri berberi, dotati solo di un'armatura leggera. La battaglia continuò così per ore intere con assalti alternati delle fanterie africane e dei berberi a cavallo, ma contro i franchi non c'era niente da fare, neanche la solita tattica dell'</a:t>
            </a:r>
            <a:r>
              <a:rPr b="0" lang="en-US" sz="2800" spc="-1" strike="noStrike" u="sng">
                <a:solidFill>
                  <a:srgbClr val="00ffcc"/>
                </a:solidFill>
                <a:uFillTx/>
                <a:latin typeface="Arial"/>
                <a:hlinkClick r:id="rId1"/>
              </a:rPr>
              <a:t>avanzamento-arretramento</a:t>
            </a:r>
            <a:r>
              <a:rPr b="0" lang="en-US" sz="2800" spc="-1" strike="noStrike" u="sng">
                <a:solidFill>
                  <a:srgbClr val="ffffff"/>
                </a:solidFill>
                <a:uFillTx/>
                <a:latin typeface="Arial"/>
              </a:rPr>
              <a:t> funzionò. Carlo Martello non lasciò andare i suoi guerrieri all'inseguimento delle truppe arabe nella loro tipica "finta ritirata", senza così cadere nel tranello musulman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19280" y="1557360"/>
            <a:ext cx="5977080" cy="4680000"/>
          </a:xfrm>
          <a:prstGeom prst="rect">
            <a:avLst/>
          </a:prstGeom>
          <a:ln w="0">
            <a:noFill/>
          </a:ln>
        </p:spPr>
      </p:pic>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III Fase della Battaglia</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560" y="404640"/>
            <a:ext cx="8713800" cy="6120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do gran parte della cavalleria saracena risultava contenuta dagli scudi ma soprattutto dalle picche dei fanti cristiani, Carlo Martello diede un segnale che fece sbucare, dal bosco in cui era nascosta, la cavalleria di </a:t>
            </a:r>
            <a:r>
              <a:rPr b="0" i="1" lang="en-US" sz="2800" spc="-1" strike="noStrike">
                <a:solidFill>
                  <a:srgbClr val="ffffff"/>
                </a:solidFill>
                <a:latin typeface="Arial"/>
              </a:rPr>
              <a:t>Oddone</a:t>
            </a:r>
            <a:r>
              <a:rPr b="0" lang="en-US" sz="2800" spc="-1" strike="noStrike">
                <a:solidFill>
                  <a:srgbClr val="ffffff"/>
                </a:solidFill>
                <a:latin typeface="Arial"/>
              </a:rPr>
              <a:t> che caricò il fianco destro dei musulmani travolgendolo e mettendolo in fuga. La forza d'urto della cavalleria franca era infatti spaventosamente superiore a quella della cavalleria leggera berbera. Nel frattempo cominciava l'avanzata compatta della fanteria che, abbandonate le posizioni di partenza, travolse tutto ciò che gli si poneva di fronte. I fanti musulmani, privi di corazzatura, non potevano reggere il corpo a corpo con i rozzi guerrieri del nord, pesantemente armati.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8:07:48Z</dcterms:created>
  <dc:creator>profilo.comune</dc:creator>
  <dc:description/>
  <dc:language>en-US</dc:language>
  <cp:lastModifiedBy>*</cp:lastModifiedBy>
  <dcterms:modified xsi:type="dcterms:W3CDTF">2009-05-08T17:01:20Z</dcterms:modified>
  <cp:revision>5</cp:revision>
  <dc:subject/>
  <dc:title>La I Fase della Battaglia</dc:title>
</cp:coreProperties>
</file>