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B93-30B5-430F-9BD0-67E0D4CC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5EB-5727-42B4-BBC3-0DE5DFA0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90C-87BF-4614-A808-201D8525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5C3-41CA-4E94-8241-43051D90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B69BB-A4D1-472C-B94A-711A7F48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7E06A-4D6B-4263-ABD4-8E5F85CA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6D99D-DFC4-4EC0-9302-06B36E50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DB522-3F1C-4AE8-A7BC-4E225D1A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CF9AD-26E4-460F-AE9D-18A39EA7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2CCBF-3876-4629-8543-7A3CA9D8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F0FB1-5182-4DC5-A20C-3B17BA2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732-2CEA-40FB-BBA0-7ABB7CC1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E723E-776C-4D69-99D4-C12C814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219CA-47B5-40EE-973E-C68ECDEF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86AB2-EA20-4B4F-A6B0-C2B3CEFE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40A23-4834-40F3-9F4B-F1E95A07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9E110-6D2C-419B-AC54-CFCD2143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6F9-B010-45B6-974C-1700CC38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B29-9268-4B8E-9AFE-5B3D0A0B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C73-B8F1-4AE7-9562-E9125EB1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6F8-4590-4169-BD98-E3F9E7BE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DE7-92D5-4051-9086-112FF086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BA39-E084-41BD-A3EA-D95034E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70B-FD0C-48A0-9117-AB7F1B4A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66E8-7ED0-4E2E-AB35-421BD445E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6B6A-8731-4610-AB93-EEE66625F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ahoma"/>
              </a:rPr>
              <a:t>La Battaglia di Qade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tegie e Fasi del combatti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se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52675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 strategia del caracollo e dell’urt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ri da Guerra Egi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51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ri da Guerra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se di approc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4897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ri da Guerra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a fase di t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492280"/>
            <a:ext cx="48722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ri da Battaglia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a fase di T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24000" y="2781360"/>
            <a:ext cx="4824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ri da Guerra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liminare dell’attac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79640" y="2805120"/>
            <a:ext cx="540072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ri da Guerra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se Fin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050920" y="2637000"/>
            <a:ext cx="5113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se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4969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se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5329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7:03:53Z</dcterms:created>
  <dc:creator>profilo.comune</dc:creator>
  <dc:description/>
  <dc:language>en-US</dc:language>
  <cp:lastModifiedBy>profilo.comune</cp:lastModifiedBy>
  <dcterms:modified xsi:type="dcterms:W3CDTF">2009-01-20T08:13:18Z</dcterms:modified>
  <cp:revision>7</cp:revision>
  <dc:subject/>
  <dc:title>La Battaglia di Qadesh</dc:title>
</cp:coreProperties>
</file>